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168-9D73-4D64-B5B3-A1957490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4C7-C1EC-478F-9E73-6A452F67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9C9-35D8-4731-8A7D-C812CAF5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4A08-9D2C-4D14-AF9E-D9689B82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A6E9-F863-4CFD-BA46-56BC561F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CE08-0560-46B2-BBC4-95EAB499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C80-E949-4247-B1F3-C864FE49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A93-B713-438B-9089-EB01AC3C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7EE5-7236-4F8E-B467-06B723DE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387-2733-4EE1-BBD6-C5506F2D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EBD-5FC6-4788-9E4F-1FF6D393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16A-CAAA-41A2-88DF-330D9F83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EF3D-E889-45A1-9DFB-B988F56910F9}" type="slidenum">
              <a:rPr b="0" lang="ar-L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060640"/>
            <a:ext cx="550872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هو هو في الأمس واليوم هو البداية هو النهاية هو الألف والياء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11560" y="1989000"/>
            <a:ext cx="59324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ه المجد له الإكرام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ea typeface="Akhbar MT"/>
              </a:rPr>
              <a:t>   له العزّة والقوّة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ea typeface="Akhbar MT"/>
              </a:rPr>
              <a:t>  مدى الدهور آمي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ea typeface="Akhbar MT"/>
              </a:rPr>
              <a:t>       هللويا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28:29Z</dcterms:created>
  <dc:creator>Charbel Azar</dc:creator>
  <dc:description/>
  <dc:language>en-US</dc:language>
  <cp:lastModifiedBy>Charbel Azar</cp:lastModifiedBy>
  <dcterms:modified xsi:type="dcterms:W3CDTF">2002-07-03T09:06:12Z</dcterms:modified>
  <cp:revision>2</cp:revision>
  <dc:subject/>
  <dc:title>Slide 1</dc:title>
</cp:coreProperties>
</file>